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E11-ABE8-48B1-9F3A-8FA51372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D45-F187-4B1B-906D-FC0FAD01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C81-6759-410E-ACC8-2FDFFD73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01B-D033-4ADD-BF5B-D07C54B6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F02-C8EB-4019-8DD7-9ADDF989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27C-E15E-4657-AC00-80A70815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7A7-311C-4D26-A905-74846A65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9BC-1C4B-4AE5-9F72-AAFA991D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A2D-8669-4C2E-A29D-4515DEB9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FCC-0E5B-4F75-B829-25A25DC5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AAA-39D0-468F-B360-29E695B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051-8A39-42E3-8F5D-4FAC837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C157-3C55-4F42-B3F1-98DA328F9B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y Last Duch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obert Brow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r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u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arn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u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an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urte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av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tle for an Italian monk (from ‘brother’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wing serious feelings or int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o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lit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mall token gift from a loved one/su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a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20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ffici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an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t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if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rso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unific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f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fspring of a donkey and a m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wer oneself (negative associ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mall in value or impor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ruth, ind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tled foreign noble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treme genero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et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ow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vow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3396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rge, quite en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a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perty or money given by a bride’s family to her husband when she marries h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enly acknowled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man god of the sea (statue, in this c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ulded, sha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ono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hyming cou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ambic pent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njamb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92000" y="1600200"/>
            <a:ext cx="54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ng uninterrupted speech by one 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wo lines of verse with end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y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verse form with five ‘feet’ (or pairs of syllables) in a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inuation of a sentence beyond the end of a line or sta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4-12-10T09:33:49Z</dcterms:modified>
  <cp:revision>23</cp:revision>
  <dc:subject/>
  <dc:title>La Belle Dame Sans Merci</dc:title>
</cp:coreProperties>
</file>